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681-178C-467A-9999-37686D97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3CD-4627-4E99-AC4F-6C007E06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982-7242-4AF3-BC66-A7716FF0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4FE-721B-446D-9141-56E4CB35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3DB5-D42C-4D5E-ACE4-29103020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9D44-DB0F-4248-A947-F868098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8BFB-71E9-4727-AC8A-6C8604CD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DBCE-9657-4B78-A933-4BFF11AA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8C5B-71FA-4830-8578-24791BA4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9815-E3C5-4DA6-8112-85BA2899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E4C1-4CF0-4560-A632-14C0BE9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0AA-24F0-4EE7-B90F-EBC7591F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8284-DA5C-4299-868E-681CE36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1ACC-7A38-4E4E-8A68-5ABDD2FF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85F8-BBF6-43C9-90F8-440D28F0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9AEE-D695-47E7-AD27-13FF7D17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29E2-D3E2-4A6E-9364-2F245085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90A3-CBD8-457F-B259-F58D301A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0915-A840-401F-A314-F3F8104D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1B90-3181-452F-9E14-C6CBC9E6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88705-158C-4B9F-AACD-7E9084AB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4B8F9-4423-46C9-A18B-82E8A367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628-5486-4157-A919-347EEAB1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A519-45CF-4D7E-A6BE-0543D2ED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1DD09-0AD1-4A07-91E7-2517FD73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4D0B-1D29-4216-847A-C6C35F45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7CD8-9C75-4BB2-A696-C3DEA4CB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EDD37-D254-422F-9EE8-F44CE0E6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6EEDC-AC7C-475C-9A39-1855BD4E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AAF4-CFFE-4671-9983-C26A7159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1ED645-F531-492F-9D22-6BB7A425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16DDB-3203-4A8C-8E7C-89B6434B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E3EC49-14B5-4C93-95C8-402F8423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323-3E62-4C60-9F29-E5DC5398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E1477-8BAF-4933-9410-9AD98E86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DC8912-7320-4250-9BA5-EFBF537B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1E68E-3E09-4347-A70B-B99F7D20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9B544-6EF3-4DDF-B819-A46D3B30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59BD6-3F6F-41CE-85E1-2FB3C35D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8D5945-CCF6-466A-97A4-47B32D78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5FA15-CE3C-4E8B-865A-65BB4ED5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F72EB-E8BC-4C65-8F5D-243513AE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43B0C-1C0D-41E1-A6FB-A01241BE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F5268-9DA5-4411-846E-FD5FC8AA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538-6F21-4567-8C64-29BBB265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86142-5000-4CDD-9A04-C8D3506D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24F97-E5D5-4330-A117-02F3A545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074B80-FDF7-43DB-8488-76ADEA0F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17F222-728E-4299-B2E8-C2A16875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9082FA-4B2F-415D-922E-2E8B0DC3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366E3-E3EA-415C-A691-8521A2B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6F155-067C-438C-80B6-C64B3125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B485F-F6B0-4B85-971E-5C7A80DB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0489C-658D-4BB3-BAFA-3786AAA5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2BB12-9C7A-46D8-ADF3-061A334A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00D-D0D0-4839-8569-BB3BCDE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DF958-B60A-4393-8FBD-C4B865D4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3F6ED-14AC-425A-9477-2E92ADD5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6236B-114E-4388-ADE0-2FF04902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421C6-CFFC-4889-AA74-4E688B8B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5CB2A-E2BC-4C4A-A598-B16558E3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7B1B2-D121-4C97-AD02-F2D17FC2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2590B-13F6-4E9A-8C35-ECCA6F19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D6B99-42E4-4FA3-9E75-F4F33119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36DA1-AD31-470F-92A8-29E261B1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4FE4E-FBD4-4B9C-8E1D-2E12CD6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890-EAF9-4D93-BAAB-F0869534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33CB5-59D8-4F34-A554-CEF6C84F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C71BA-337B-4DD6-89A2-35474A0C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55B8-4430-42AF-A4CC-AB8C87D6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51BA2-226B-4581-B136-39A3690A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61070-CCFB-424B-B224-40095218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74ADA-D357-4B79-BC9F-2BF5B962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0FB5A-8C7A-40BF-B0E8-DCA98495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B2807-D010-428C-8D2D-2A7E9260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0D88D-C013-4D27-AAFC-AF28CB12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40FDC-4322-42EF-A1B9-7BC3E8B8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BF0-BAE2-4BC8-8AD3-3E8D51D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C1EC4-FC07-42D8-84B8-3FD75107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E01C9-C310-456C-9320-B4B7DC86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C7808-FB77-41AB-9AF8-84D1433F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199C9-D7A3-49C2-A890-18DB2AE9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93439-75FC-4AEB-9017-EBD56B24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9D0676-47D6-4C84-A0FD-313A132F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E0187-1811-4C7F-8053-75CCB3DA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4B6A28-FBB3-46A6-B052-A7BF9C91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B2D74-60B9-4A25-BA56-0214A9E9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827DC9-B00D-4641-9C9D-AAFEC5D3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C4C-8B71-43DF-A0A0-45BF174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8B2079-4C6D-48BA-8873-222FD171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DF0893-769C-4D12-9750-4B642E4C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1311C4-9E82-4E55-8CB4-80A85689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A03CBE-6D17-4227-A1D9-F5574100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8F0E04-A9E9-4F68-B86A-CF33C1AA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CE6AF-5126-4FAE-B3B7-B4AB7B9C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3FD5F-F38E-4CBB-AC4B-F02133B8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1504-3BAA-4034-B750-3993F04DC1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9223-25B9-44BF-B2DC-55FFC0ABF9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9B9C-3FFB-4B16-8A8E-EB518EA911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8F5E-13CB-4BCB-BDCB-763DD32BF9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D0BD-9C5A-4FE0-9371-508721EF14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1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1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2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2919-AB74-4FDF-A618-6018563955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B250-3D15-4335-82A8-C86DD2DA1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1886-6939-4597-9AD3-AC28705FB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mosph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tmosphere is the gas that surounds a pla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o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w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vestiga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feren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dependent variable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sul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exhausti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terial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pa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ximum amount that can be held or taken i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ture of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91960"/>
            <a:ext cx="80773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cedur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hysical propert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l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nt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mbinat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wo or more substances put togethe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ientific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a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ructive F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conclusion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pendent variabl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position of 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solv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5:04:00Z</dcterms:created>
  <dc:creator>Martin Lawrenced</dc:creator>
  <dc:description/>
  <dc:language>en-US</dc:language>
  <cp:lastModifiedBy>Rusk21 Elementary school</cp:lastModifiedBy>
  <dcterms:modified xsi:type="dcterms:W3CDTF">2009-04-16T17:24:14Z</dcterms:modified>
  <cp:revision>15</cp:revision>
  <dc:subject/>
  <dc:title>Science Terms</dc:title>
</cp:coreProperties>
</file>